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EB0F-F786-4177-B8C6-D1C0E65CE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6262-AA1F-42D3-88D5-50A3AAEC8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964C-1CAB-42B2-9BFC-F11AF3462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7043-C818-4E75-BD54-C3809D933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99D1-F288-4046-8C03-241CB60D5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E1B8-A10E-4B28-9494-D17EAB55E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43F6-5B33-4A0C-82AD-BF901B696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E5B0-53FB-496C-8E0E-2C2260873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1600-5D38-4C25-8869-C73760228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BFF4-2478-4867-8A68-3DEE4007E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723E-5469-417B-AD69-49B590C37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035B-115F-451C-B878-2B960F242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9E0D4-E9D0-42D0-AD8A-513390CFE35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00:59:46Z</dcterms:created>
  <dc:creator>Administrator</dc:creator>
  <dc:description/>
  <dc:language>en-US</dc:language>
  <cp:lastModifiedBy>Administrator</cp:lastModifiedBy>
  <dcterms:modified xsi:type="dcterms:W3CDTF">2015-04-21T01:00:09Z</dcterms:modified>
  <cp:revision>1</cp:revision>
  <dc:subject/>
  <dc:title/>
</cp:coreProperties>
</file>